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119F8-F533-4617-90CC-23D5070C8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646A2-346A-42EA-82FC-784EC2BAC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5E2FA-83CC-441F-A3F8-8EED69765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EB476-E2B4-43C1-8F44-21BDA39E5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060FE-79A0-4A4D-8CCF-774330957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9F0A5-2A40-4C59-856F-CB5F2EC2F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49E52-0172-4460-A3F0-27E168FBA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C6E1D-5FC6-4339-900B-683FAEB68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6FD3D-222F-45E9-A36E-20F7C0D0B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8AA04-A417-4EC9-928A-DE1DE190B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6062E-569E-4583-85CF-89E5AAF38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BD6D8-88D7-4FCB-BB8E-A764A1C36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AF179-E6E8-49AE-9C72-0DFD16142CD6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380520" y="4952880"/>
            <a:ext cx="8533080" cy="13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용민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수경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979640" y="1197000"/>
            <a:ext cx="5040360" cy="178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위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지하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호선 백석역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7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번출구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도보로 약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아침에 지하철역 앞에 셔틀다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692360" y="2924280"/>
            <a:ext cx="547200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남 – 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머리 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장 단정하게 할 것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!!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토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매주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5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요일마다 일주일씩 구입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당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2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–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하루 정해서 병동에 내려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–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입원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외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동안 하루 정해서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치료실마다 하나씩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report 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치료실마다 하나씩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+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논문번역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ase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발표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024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질문 많음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대부분 용인대 출신 선생님들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환자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ransfer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해야 함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modality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루한 편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선생님 한 분과 같이 풀에 들어가서 관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성인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로 나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장점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부분의 전문적인 치료를 볼 수 있다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환자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est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간 주어짐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설 좋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밥 한식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양식 둘다 맛없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리적으로 멀리 위치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고시원 잡은 학생들 많았음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Staff</cp:lastModifiedBy>
  <dcterms:modified xsi:type="dcterms:W3CDTF">2009-04-11T08:29:06Z</dcterms:modified>
  <cp:revision>10</cp:revision>
  <dc:subject/>
  <dc:title>영남대학교의료원</dc:title>
</cp:coreProperties>
</file>