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559675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2500920"/>
            <a:ext cx="680364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8000" y="5738760"/>
            <a:ext cx="680364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250092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64240" y="250092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000" y="573876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864240" y="573876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0920"/>
            <a:ext cx="219060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78400" y="2500920"/>
            <a:ext cx="219060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79160" y="2500920"/>
            <a:ext cx="219060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8000" y="5738760"/>
            <a:ext cx="219060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678400" y="5738760"/>
            <a:ext cx="219060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979160" y="5738760"/>
            <a:ext cx="219060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78000" y="2500920"/>
            <a:ext cx="6803640" cy="61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78000" y="2500920"/>
            <a:ext cx="6803640" cy="61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78000" y="2500920"/>
            <a:ext cx="3319920" cy="61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864240" y="2500920"/>
            <a:ext cx="3319920" cy="61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78000" y="426240"/>
            <a:ext cx="6803640" cy="82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092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0920"/>
            <a:ext cx="3319920" cy="61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78000" y="573876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8000" y="2500920"/>
            <a:ext cx="3319920" cy="61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64240" y="250092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64240" y="573876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0" y="426240"/>
            <a:ext cx="680364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8000" y="250092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64240" y="2500920"/>
            <a:ext cx="331992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8000" y="5738760"/>
            <a:ext cx="6803640" cy="29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54"/>
          <p:cNvSpPr/>
          <p:nvPr/>
        </p:nvSpPr>
        <p:spPr>
          <a:xfrm>
            <a:off x="2556000" y="376200"/>
            <a:ext cx="24159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Line 55"/>
          <p:cNvSpPr/>
          <p:nvPr/>
        </p:nvSpPr>
        <p:spPr>
          <a:xfrm>
            <a:off x="2886120" y="736560"/>
            <a:ext cx="1746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" name="Picture 238" descr=""/>
          <p:cNvPicPr/>
          <p:nvPr/>
        </p:nvPicPr>
        <p:blipFill>
          <a:blip r:embed="rId1"/>
          <a:srcRect l="18529" t="916" r="0" b="0"/>
          <a:stretch/>
        </p:blipFill>
        <p:spPr>
          <a:xfrm>
            <a:off x="3213000" y="10242720"/>
            <a:ext cx="1459080" cy="42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" name=""/>
          <p:cNvGraphicFramePr/>
          <p:nvPr/>
        </p:nvGraphicFramePr>
        <p:xfrm>
          <a:off x="4932360" y="1073160"/>
          <a:ext cx="2521080" cy="237960"/>
        </p:xfrm>
        <a:graphic>
          <a:graphicData uri="http://schemas.openxmlformats.org/drawingml/2006/table">
            <a:tbl>
              <a:tblPr/>
              <a:tblGrid>
                <a:gridCol w="720720"/>
                <a:gridCol w="180036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지원분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안전관리 □    전산∙정보 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" name=""/>
          <p:cNvGraphicFramePr/>
          <p:nvPr/>
        </p:nvGraphicFramePr>
        <p:xfrm>
          <a:off x="374760" y="1328760"/>
          <a:ext cx="6819840" cy="8623440"/>
        </p:xfrm>
        <a:graphic>
          <a:graphicData uri="http://schemas.openxmlformats.org/drawingml/2006/table">
            <a:tbl>
              <a:tblPr/>
              <a:tblGrid>
                <a:gridCol w="704880"/>
                <a:gridCol w="898560"/>
                <a:gridCol w="372960"/>
                <a:gridCol w="523800"/>
                <a:gridCol w="898560"/>
                <a:gridCol w="735120"/>
                <a:gridCol w="820440"/>
                <a:gridCol w="190800"/>
                <a:gridCol w="349200"/>
                <a:gridCol w="117360"/>
                <a:gridCol w="360360"/>
                <a:gridCol w="190440"/>
                <a:gridCol w="657360"/>
              </a:tblGrid>
              <a:tr h="280440"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성 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한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 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생년월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사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한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 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병역사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면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미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해당없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연락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전자우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주   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600">
                <a:tc gridSpan="1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학  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기    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학  교 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전  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평균학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비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고등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학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학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 gridSpan="1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어  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자  격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점수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등급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기    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취  득  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600">
                <a:tc gridSpan="1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자격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자  격  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등   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기    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취  득  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00">
                <a:tc gridSpan="1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활동사항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해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리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기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활 동 기 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활 동 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기  관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단  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비 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 gridSpan="1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수상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상  훈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내     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기  관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훈  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수 상 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기타사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4e7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보훈대상여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상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비대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장애인여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상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/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비대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비  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gridSpan="5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*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제출된 서류는 관련 법령에 따라 처리합니다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7240">
                <a:tc gridSpan="13"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   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년         월         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13"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작성자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:                      (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인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34880" y="711360"/>
            <a:ext cx="6650280" cy="299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장과정 및 학창시절에 대해서 작성해 주십시오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39560" y="1049400"/>
            <a:ext cx="6650280" cy="38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900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19040" y="5137200"/>
            <a:ext cx="6649920" cy="301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금까지 해오던 방식에서 벗어나 새로운 관점에서 일을 추진했던 경험에 대해서 작성해 주십시오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411120" y="5518080"/>
            <a:ext cx="6649920" cy="45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900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563400" y="160200"/>
            <a:ext cx="323244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기 소 개 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38" descr=""/>
          <p:cNvPicPr/>
          <p:nvPr/>
        </p:nvPicPr>
        <p:blipFill>
          <a:blip r:embed="rId1"/>
          <a:srcRect l="18529" t="916" r="0" b="0"/>
          <a:stretch/>
        </p:blipFill>
        <p:spPr>
          <a:xfrm>
            <a:off x="3213000" y="10242720"/>
            <a:ext cx="1459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31640" y="231840"/>
            <a:ext cx="6650280" cy="419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)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새로운 환경이나 조직에 들어가서 갈등을 겪었던 경험과 이를 성공적으로 극복했던 사례에 대해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작성해 주십시오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19040" y="701640"/>
            <a:ext cx="6649920" cy="382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900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82760" y="4695840"/>
            <a:ext cx="6649920" cy="4287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)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 성취감을 느꼈던 일은 무엇이었습니까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일을 시작하게된 동기와 달성하기 위해 어떤 노력을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울였는지 작성해 주십시오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69800" y="5180040"/>
            <a:ext cx="6650280" cy="477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900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38" descr=""/>
          <p:cNvPicPr/>
          <p:nvPr/>
        </p:nvPicPr>
        <p:blipFill>
          <a:blip r:embed="rId1"/>
          <a:srcRect l="18529" t="916" r="0" b="0"/>
          <a:stretch/>
        </p:blipFill>
        <p:spPr>
          <a:xfrm>
            <a:off x="3213000" y="10242720"/>
            <a:ext cx="1459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42800" y="331920"/>
            <a:ext cx="6650280" cy="455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)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이 서라벌도시가스에 꼭 입사해야 하는 이유와 지원 직무를 위해 했던 노력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서라벌도시가스에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사해서 이루고 싶은  목표에 대해 작성해 주십시오</a:t>
            </a: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2520" y="822240"/>
            <a:ext cx="6649920" cy="382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0" bIns="9000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38" descr=""/>
          <p:cNvPicPr/>
          <p:nvPr/>
        </p:nvPicPr>
        <p:blipFill>
          <a:blip r:embed="rId1"/>
          <a:srcRect l="18529" t="916" r="0" b="0"/>
          <a:stretch/>
        </p:blipFill>
        <p:spPr>
          <a:xfrm>
            <a:off x="3213000" y="10242720"/>
            <a:ext cx="1459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0"/>
          <p:cNvSpPr/>
          <p:nvPr/>
        </p:nvSpPr>
        <p:spPr>
          <a:xfrm>
            <a:off x="487440" y="422280"/>
            <a:ext cx="36558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▣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처 우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이 있는 지원자의 경우 작성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0280" y="808200"/>
          <a:ext cx="6561000" cy="1854000"/>
        </p:xfrm>
        <a:graphic>
          <a:graphicData uri="http://schemas.openxmlformats.org/drawingml/2006/table">
            <a:tbl>
              <a:tblPr/>
              <a:tblGrid>
                <a:gridCol w="874800"/>
                <a:gridCol w="718920"/>
                <a:gridCol w="936720"/>
                <a:gridCol w="1368360"/>
                <a:gridCol w="1150920"/>
                <a:gridCol w="1511280"/>
              </a:tblGrid>
              <a:tr h="371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 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본 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기상여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 과 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정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T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타수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연 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 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40"/>
          <p:cNvSpPr/>
          <p:nvPr/>
        </p:nvSpPr>
        <p:spPr>
          <a:xfrm>
            <a:off x="536400" y="2981160"/>
            <a:ext cx="36561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▣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 력 소 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54040" y="3417840"/>
          <a:ext cx="6539040" cy="6318360"/>
        </p:xfrm>
        <a:graphic>
          <a:graphicData uri="http://schemas.openxmlformats.org/drawingml/2006/table">
            <a:tbl>
              <a:tblPr/>
              <a:tblGrid>
                <a:gridCol w="6539040"/>
              </a:tblGrid>
              <a:tr h="343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 소 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7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238" descr=""/>
          <p:cNvPicPr/>
          <p:nvPr/>
        </p:nvPicPr>
        <p:blipFill>
          <a:blip r:embed="rId1"/>
          <a:srcRect l="18529" t="916" r="0" b="0"/>
          <a:stretch/>
        </p:blipFill>
        <p:spPr>
          <a:xfrm>
            <a:off x="3213000" y="10242720"/>
            <a:ext cx="1459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0:20:54Z</dcterms:created>
  <dc:creator>Report Designer</dc:creator>
  <dc:description>Report Designer PowerPoint File</dc:description>
  <dc:language>en-US</dc:language>
  <cp:lastModifiedBy>김상현</cp:lastModifiedBy>
  <cp:lastPrinted>2018-10-29T07:51:37Z</cp:lastPrinted>
  <dcterms:modified xsi:type="dcterms:W3CDTF">2018-10-30T06:55:30Z</dcterms:modified>
  <cp:revision>26</cp:revision>
  <dc:subject/>
  <dc:title>Report Desiger PowerPoint File</dc:title>
</cp:coreProperties>
</file>