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0661-FD7E-41E2-953E-77CAF1894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838D-43AF-472A-9C0D-03F7DF5CC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9CE0-35A5-4BE9-812E-74F57C337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CFD3-2909-486A-9905-268752D9A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F0851-8BEB-4D0A-9E77-BA22DDFC6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55DA4-A1BB-4AC5-94B9-3ECA501E2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E3A9E-1DA0-48EF-B9A4-FAD8FB5CF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6B88E-CBF3-4457-818E-0D47A5355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F6BE5-2229-4635-914F-D70356E6A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C8DC7-D9A2-4BC3-984E-6312630CD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37951-DEE2-49AF-895A-0CC6414FB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C222-0F50-4915-933B-8A4DB092A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1C5F7-101B-4DE8-9897-D0F6F373B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C611E-2293-4BE0-A3DB-8C2917A64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73438-A8BD-4752-8647-D32FAD1A5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A9711-8B9D-4788-9FA3-49CB07396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D9E5E-DDC7-4297-B02A-F5C0CA617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F2A0-BCD6-448D-AFA2-CD777CEEE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7C58-CD96-451B-AD8B-3E8895304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D977-FB64-4341-93D6-FEF96C3A1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D468-7E5D-4019-9216-D0895494C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17F4-F6AF-4598-8A62-238D4F06C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36CA-9467-4BB2-94F5-C20D4D4AA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BCC3-84DC-4C24-9CAC-ECDD44C8B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1027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1028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1029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2AD05-C52E-4678-8605-E0BA76361D78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E7AB7-E22D-4E69-8186-3B3BA438E8F9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임상관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933560"/>
            <a:ext cx="777240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½Å¸íÁ¶"/>
              </a:rPr>
              <a:t>Meryl</a:t>
            </a:r>
            <a:r>
              <a:rPr b="0" lang="en-US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½Å¸íÁ¶"/>
                <a:ea typeface="신명조"/>
              </a:rPr>
              <a:t>J. Wall  &amp;  Florence L. Myer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권 도  하 역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한국언어치료학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절충주의적인 관점을 발전시킴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자료에서 이끌어낸 요소들을 결합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학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스타일 등에서 가장 좋다고 생각되는 것을 선택하는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의 필요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본질과 치료에 관하여 많은 진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 한가지의 만족스러운 방법 없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영원히 불가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너무나 다양해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한가지 틀 속에 집어넣을 수가 없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측면에서 말더듬이들의 유사성에 따라 나눌 수는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절충적인 접근법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풍부한 이론적인 근거와 실험연구에서 유도해 낸 매우 잘 증명된 원리에 근거해야 한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 원리에 근거를 두어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가 나타내는 특정한 증후를 검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증후와 치료를 가장 적합하게 연결시키기 위하여 철저한 연구를 한 후에야 도달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이론없이 아무렇게나 여러 가지 치료기법들을 혼합한 것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장애라고 가장 많이 정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리듬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흐름이 깨어져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시간 맞추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리듬이 부적당한 패턴으로 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청각적 및 시각적 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향적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+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시각적인 실마리라는 견지에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 및 청자의 반응이란 견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대한 기준은 객관적 및 주관적인 속성으로 이루어짐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병리적인 비유창성과 정상적인 비유창성을 구별하는 일은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유 창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속도에 대한 일반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체적인 비율 형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각 음과 음절의 지속 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의 지속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세대조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stress contrast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의 정도 등에 영향 받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용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본서에서는 중립적인 뜻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저자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반대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18" name="00418-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정상적인 비유창성</a:t>
            </a: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고딕"/>
              </a:rPr>
              <a:t>(nonfluency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정도의 유창성 깨어짐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fluency disruption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상적인 구어 및 언어 발달 과정에 수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깨어짐의 일부분으로서 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예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삽입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 반복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수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말더듬과 병리적인 비유창성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(dysfluency or disfluency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또는 단어가 운동적으로 깨어짐으로써 또는 화자가 거기에 반응함으로써 앞으로 흘러나오는 말의 흐름이 깨어질 때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속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억양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음 외에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의 안면 표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세 조정 등을 포함하는 어떤 비음성적 특징 등과 같은 변수들에 영향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결과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지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노력하는 것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불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협응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과 같은 특징이 나타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어보다 더 작은 발화 단위의 반복과 연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비율에서의 비정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평가 및 치료를 위한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3</a:t>
            </a: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요인 모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여러 가지 요인들 사이의 통합 혹은 협응의 결핍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폭넓고 절충적인 관점을 반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에 관한 정보를 조직하기 위한 모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yers &amp; Well, 1982)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요인들과 아동기 말더듬의 임상적인 관리와 관련된 각 요인들간의 변인들을 나타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두 가지 요인들이 상호결합하면 한 요인이 다른 요인에 영향을 미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언어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운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화의 목적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의미있는 성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담화의 사회적 하중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생리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OT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I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 및 후두부의 긴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율신경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제</a:t>
            </a:r>
            <a:r>
              <a:rPr b="0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1</a:t>
            </a: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장  서    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을 치료하는 임상가의 자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의 어려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Wendell Johnson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글을 인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내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를 할 수록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에 관한 어떠한 치료적인 생각도 수용하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말더듬 치료 방법이 수없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시적 흥미 이상의 치료 성공을 거두는 방법들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6" name="0043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용 글이 주는 교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Johnson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은 말더듬 분야의 대표적인 인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현상에 대단히 겸허하게 접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기간 치료 약속은 신중히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연구가 많이 발전되어 왔음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와 임상실제에의 적용 사이에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 : 1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상관관계를 이루는 유일한 치료 프로그램은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사의 자질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말더듬에 관한 폭넓게 기초한 관점을 가질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리한 관찰기술을 기를 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임상기법을 발전시키기 위하여 이론과 연구를 바르게 이해할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절충주의적인 관점을 발전시킬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1" name="00434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복잡하고 다차원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과 구어산출 시스템 사이의 상호관계 이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Van Riper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시간장애라고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과 단어들의 운동형태가 일시적으로 깨어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의 지나친 긴장과 구어산출의 기초 영역과의 장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와 말더듬 사이의 상호관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발달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적 등의 발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이 발달하고 기간에 이루어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등의 발달 사이의 상호작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변인들을 고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명조"/>
              </a:rPr>
              <a:t>2. </a:t>
            </a: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예리한 관찰기술을 기를 것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대단히 복잡하고 다면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ultifaceted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영향을 미치는 요인에 관한 풍부한 지식을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엄격하고 철저하게 관찰하고 서술하는 것이 중요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을 신뢰도와 타당도가 높게 관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찰상의 개인내 차와 개인간 차가 허용오차 범위 내에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임상기법의 발전을 위한 이론과 연구를 바르게 이해할 것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생들의 특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것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&lt;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실제적인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문적 깊이 없는 실제는 위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통찰력과 연구발견점에 대한 지식에서 많은 것을 얻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훌륭한 연구는 풍부한 이론에서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한 연구자료에 근거할 때 좋은 임상적인 방책들이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실제는 일방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unidirectional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계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0:06:49Z</dcterms:created>
  <dc:creator>황규탁</dc:creator>
  <dc:description/>
  <dc:language>en-US</dc:language>
  <cp:lastModifiedBy>user</cp:lastModifiedBy>
  <dcterms:modified xsi:type="dcterms:W3CDTF">2013-11-13T06:42:09Z</dcterms:modified>
  <cp:revision>34</cp:revision>
  <dc:subject/>
  <dc:title>말더듬 임상관리</dc:title>
</cp:coreProperties>
</file>